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A1B-0008-4C52-868E-9BB1CCA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38E-4698-497A-8AFC-455FF083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D4D-9AAF-49C7-8673-D273BB64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8A5-9D27-4A7F-8989-FC0AC97F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D26-E0B4-4E7B-9139-43CAC8B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8E6-4F90-4CA7-B0D4-F4E6301F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A4F-F051-49F3-AE4B-9A0F96AC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296-9E7F-4EB1-86BD-0832579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29A-2C11-46CE-A6C9-F2607BF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45A-346A-4136-ADF1-96213F0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C43-11B6-4894-B18E-684BA62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E9C-B3D2-4066-8F91-EA6E887E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64FE-7723-4BC4-9D18-5F6FBD75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INTRODUCTION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TO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EPI STUDY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760" y="3576600"/>
            <a:ext cx="693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xperimental versus Observation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irectionality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iming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Clinical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Overview of observational designs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6212"/>
          <a:stretch/>
        </p:blipFill>
        <p:spPr>
          <a:xfrm>
            <a:off x="762120" y="18288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61979" r="0" b="8447"/>
          <a:stretch/>
        </p:blipFill>
        <p:spPr>
          <a:xfrm>
            <a:off x="762120" y="3657600"/>
            <a:ext cx="7315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784" t="0" r="0" b="81844"/>
          <a:stretch/>
        </p:blipFill>
        <p:spPr>
          <a:xfrm>
            <a:off x="1143000" y="914400"/>
            <a:ext cx="70102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28796" r="35878" b="0"/>
          <a:stretch/>
        </p:blipFill>
        <p:spPr>
          <a:xfrm>
            <a:off x="1143000" y="182880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39152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64714" r="0" b="0"/>
          <a:stretch/>
        </p:blipFill>
        <p:spPr>
          <a:xfrm>
            <a:off x="914400" y="52578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5085" r="-1069" b="0"/>
          <a:stretch/>
        </p:blipFill>
        <p:spPr>
          <a:xfrm>
            <a:off x="838080" y="3962520"/>
            <a:ext cx="7696440" cy="25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54843" t="24647" r="0" b="53559"/>
          <a:stretch/>
        </p:blipFill>
        <p:spPr>
          <a:xfrm>
            <a:off x="4800600" y="15238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843" t="35544" r="0" b="53559"/>
          <a:stretch/>
        </p:blipFill>
        <p:spPr>
          <a:xfrm>
            <a:off x="4800600" y="3124080"/>
            <a:ext cx="3200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5280" y="495288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7:45Z</dcterms:modified>
  <cp:revision>108</cp:revision>
  <dc:subject/>
  <dc:title>Intro to Epi Study Designs</dc:title>
</cp:coreProperties>
</file>